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984C8-0393-4C20-9C46-2B515E0B4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C02AB-83EE-42D1-9EB7-8D3EF2E8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EDB8A-E3EF-41BA-9908-28C71FB3B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38365-6B04-47F9-A659-F073DFEA6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0EEBA-E5BE-4E3E-8C32-DB622AACC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261FD-AF61-43FC-8AF7-CB11772FF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69399-96E1-49C5-9A9F-7D1375A8D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EDD6A-22AF-43E4-A9B3-55E0DC884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BBA40-79A5-4B2B-BC5A-BFE5685AD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485CD-A464-43CF-B478-B570B4F9F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4B426-4ADE-4FC6-9316-CD8B46EB3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DC37B-8CB2-4B7D-B01F-B3C61C3B9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A3623-4D9B-4657-A4F4-0998BF65E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0F5F4-66DB-432F-B150-EA8E7AF25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ECD3B-E153-4286-9091-C89A3D9F7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E75BA-78C0-45D1-AEEC-E53C05066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27FBB-C38E-4601-85D6-D88F04D4D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2B560-2EB2-45A1-B194-0FC00F335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83B2D-6463-4861-B38E-AD5AC1A9A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A261C-EAB6-4859-8938-7011D0968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427E7-C12A-49E8-9BDF-E2729227D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ADF2-5741-4189-8652-48E3DEAA8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C50E9-A92C-4B3B-9FD0-FBBAFEC91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2281-9EFE-4A78-9DF0-FCF48EA3D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3F07-A3CA-49E9-9121-5D04B18FB49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3538-D57D-431D-B203-888D956C003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PEPs</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uggested guidelines</a:t>
            </a:r>
            <a:endParaRPr b="0" lang="en-US" sz="28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r getting started</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600"/>
            <a:ext cx="777240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ooking at Peyton</a:t>
            </a:r>
            <a:endParaRPr b="0" lang="en-US" sz="4000" spc="-1" strike="noStrike">
              <a:solidFill>
                <a:srgbClr val="ffffff"/>
              </a:solidFill>
              <a:latin typeface="Comic Sans MS"/>
            </a:endParaRPr>
          </a:p>
        </p:txBody>
      </p:sp>
      <p:sp>
        <p:nvSpPr>
          <p:cNvPr id="101" name="PlaceHolder 2"/>
          <p:cNvSpPr>
            <a:spLocks noGrp="1"/>
          </p:cNvSpPr>
          <p:nvPr>
            <p:ph/>
          </p:nvPr>
        </p:nvSpPr>
        <p:spPr>
          <a:xfrm>
            <a:off x="685800" y="2057400"/>
            <a:ext cx="7772400" cy="4038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pon reviewing the problem analysis in each area for Peyton, you will see that there is really only one need.</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cabulary</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refore, for Peyton you would determine a vocabulary baseline &amp; benchmark.  Then develop one intervention plan that focuses on vocabulary.</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 am done with the define the problem &amp; problem analysis, what next?</a:t>
            </a:r>
            <a:endParaRPr b="0" lang="en-US" sz="28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identified a single learning need, address the identified need by completing the comparison to peers, baseline &amp; benchmark.</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need to complete the various content areas, do a comparison to peers, baseline &amp; benchmark for each content area (such as reading, math, &amp; writing)</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re is not a single need that is affecting all areas, what now?</a:t>
            </a:r>
            <a:endParaRPr b="0" lang="en-US" sz="3200" spc="-1" strike="noStrike">
              <a:solidFill>
                <a:srgbClr val="ffffff"/>
              </a:solidFill>
              <a:latin typeface="Comic Sans MS"/>
            </a:endParaRPr>
          </a:p>
        </p:txBody>
      </p:sp>
      <p:sp>
        <p:nvSpPr>
          <p:cNvPr id="10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are not able to identified a single learning need and must address the various content areas, start with reading.</a:t>
            </a: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fter completing the reading needs assessment, determine what areas are affected by that need.  (keeping in mind that reading may be affecting multiple areas such as math and writing).  Therefore under areas concern, you would check things in math &amp; writing, then write interventions that focus on reading. (See Brian)</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fter completing reading…</a:t>
            </a:r>
            <a:endParaRPr b="0" lang="en-US" sz="4000" spc="-1" strike="noStrike">
              <a:solidFill>
                <a:srgbClr val="ffffff"/>
              </a:solidFill>
              <a:latin typeface="Comic Sans MS"/>
            </a:endParaRPr>
          </a:p>
        </p:txBody>
      </p:sp>
      <p:sp>
        <p:nvSpPr>
          <p:cNvPr id="10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termine if there is a separate need in math and/or writing.</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ddress any other needs identified.</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nished with all my </a:t>
            </a:r>
            <a:br>
              <a:rPr sz="3200"/>
            </a:br>
            <a:r>
              <a:rPr b="0" lang="en-US" sz="3200" spc="-1" strike="noStrike">
                <a:solidFill>
                  <a:srgbClr val="ffffff"/>
                </a:solidFill>
                <a:latin typeface="Comic Sans MS"/>
              </a:rPr>
              <a:t>Needs Assessments, now what?</a:t>
            </a:r>
            <a:endParaRPr b="0" lang="en-US" sz="3200" spc="-1" strike="noStrike">
              <a:solidFill>
                <a:srgbClr val="ffffff"/>
              </a:solidFill>
              <a:latin typeface="Comic Sans MS"/>
            </a:endParaRPr>
          </a:p>
        </p:txBody>
      </p:sp>
      <p:sp>
        <p:nvSpPr>
          <p:cNvPr id="10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roup your needs assessments.</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ome students may have similar needs.  Identifying this before developing interventions will help when deciding on interventions and flexible grouping.</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riting Intervention Plans</a:t>
            </a: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nk about your goals carefully.  One purposeful goal for each area of need is enough.</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member, for each goal you write, you must progress monito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erventions</a:t>
            </a:r>
            <a:endParaRPr b="0" lang="en-US" sz="4000" spc="-1" strike="noStrike">
              <a:solidFill>
                <a:srgbClr val="ffffff"/>
              </a:solidFill>
              <a:latin typeface="Comic Sans MS"/>
            </a:endParaRPr>
          </a:p>
        </p:txBody>
      </p:sp>
      <p:sp>
        <p:nvSpPr>
          <p:cNvPr id="11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 intervention is instruction.</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You must identified the “the what” &amp; “the how”.</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will the student be instructed in and how with that instruction be provided.</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71600"/>
            <a:ext cx="777240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or example:</a:t>
            </a:r>
            <a:endParaRPr b="0" lang="en-US" sz="4000" spc="-1" strike="noStrike">
              <a:solidFill>
                <a:srgbClr val="ffffff"/>
              </a:solidFill>
              <a:latin typeface="Comic Sans MS"/>
            </a:endParaRPr>
          </a:p>
        </p:txBody>
      </p:sp>
      <p:sp>
        <p:nvSpPr>
          <p:cNvPr id="115" name="PlaceHolder 2"/>
          <p:cNvSpPr>
            <a:spLocks noGrp="1"/>
          </p:cNvSpPr>
          <p:nvPr>
            <p:ph/>
          </p:nvPr>
        </p:nvSpPr>
        <p:spPr>
          <a:xfrm>
            <a:off x="685800" y="2133720"/>
            <a:ext cx="7772400" cy="3962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the concrete-representation approach (the what), Ashley will receive tutoring (the how) 2 times a week for 30 minutes.</a:t>
            </a:r>
            <a:endParaRPr b="0" lang="en-US" sz="1800" spc="-1" strike="noStrike">
              <a:solidFill>
                <a:srgbClr val="ffffff"/>
              </a:solidFill>
              <a:latin typeface="Comic Sans MS"/>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ian will receive tutoring (the how) using vocabulary activities (the what) from the Florida Center for Reading Research.</a:t>
            </a:r>
            <a:endParaRPr b="0" lang="en-US" sz="1800" spc="-1" strike="noStrike">
              <a:solidFill>
                <a:srgbClr val="ffffff"/>
              </a:solidFill>
              <a:latin typeface="Comic Sans MS"/>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ian will work on content vocabulary (the what), 2 nights a week with parent for 20 minutes (the how)</a:t>
            </a:r>
            <a:endParaRPr b="0" lang="en-US" sz="1800" spc="-1" strike="noStrike">
              <a:solidFill>
                <a:srgbClr val="ffffff"/>
              </a:solidFill>
              <a:latin typeface="Comic Sans MS"/>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ashia will continue her after school tutoring (the how) with a focus on fluency (the what) using the Florida Center for Reading Research Fluency activities.</a:t>
            </a:r>
            <a:endParaRPr b="0" lang="en-US" sz="1800" spc="-1" strike="noStrike">
              <a:solidFill>
                <a:srgbClr val="ffffff"/>
              </a:solidFill>
              <a:latin typeface="Comic Sans MS"/>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ashia will work in a group (the how) to learn how to use picture and context clues to figure out words (the what)</a:t>
            </a:r>
            <a:endParaRPr b="0" lang="en-US" sz="1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General Comments</a:t>
            </a:r>
            <a:endParaRPr b="0" lang="en-US" sz="4000" spc="-1" strike="noStrike">
              <a:solidFill>
                <a:srgbClr val="ffffff"/>
              </a:solidFill>
              <a:latin typeface="Comic Sans MS"/>
            </a:endParaRPr>
          </a:p>
        </p:txBody>
      </p:sp>
      <p:sp>
        <p:nvSpPr>
          <p:cNvPr id="117" name="PlaceHolder 2"/>
          <p:cNvSpPr>
            <a:spLocks noGrp="1"/>
          </p:cNvSpPr>
          <p:nvPr>
            <p:ph/>
          </p:nvPr>
        </p:nvSpPr>
        <p:spPr>
          <a:xfrm>
            <a:off x="685800" y="2438280"/>
            <a:ext cx="7772400" cy="36576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find yourself combining the intervention column &amp; resource column, that is fine as long as you have all the information.</a:t>
            </a: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are able to create a sheet that is easier for you to progress monitoring that has all the requested information in the progress monitoring squares, use it in place of the squares (just be sure all requested information is presen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MEMBER!</a:t>
            </a:r>
            <a:endParaRPr b="0" lang="en-US" sz="4000" spc="-1" strike="noStrike">
              <a:solidFill>
                <a:srgbClr val="ffffff"/>
              </a:solidFill>
              <a:latin typeface="Comic Sans MS"/>
            </a:endParaRPr>
          </a:p>
        </p:txBody>
      </p:sp>
      <p:sp>
        <p:nvSpPr>
          <p:cNvPr id="119"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rite good plan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lans move with the student into the next year, if the student is still off grade level.</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 want that teacher to have a good plan to review and adjust (not have to start ov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tarting Point</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r each student, begin with the needs assessment on page 2.</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If the student is an EC student, be sure to review the new EC PEP and directions to determine if it is appropriate for the studen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ackling the Needs Assessment</a:t>
            </a:r>
            <a:endParaRPr b="0" lang="en-US" sz="3600" spc="-1" strike="noStrike">
              <a:solidFill>
                <a:srgbClr val="ffffff"/>
              </a:solidFill>
              <a:latin typeface="Comic Sans MS"/>
            </a:endParaRPr>
          </a:p>
        </p:txBody>
      </p:sp>
      <p:sp>
        <p:nvSpPr>
          <p:cNvPr id="8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rst look at the student as a whole child before looking at individual content areas (such as reading or math).</a:t>
            </a: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sk yourself, is the need a content need or a separate learning need (such as motivation, behavior, retention, language, higher order thinking, etc.) ?</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ingle Learning Need</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133720"/>
            <a:ext cx="7772400" cy="3962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are able to identified a single learning need, then complete the comparison to peers, baseline, &amp; benchmark for the identified need.</a:t>
            </a: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ond, determine all the areas affected by the identified need and check those areas under areas of concern.</a:t>
            </a: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determine if there is another need/area to address.</a:t>
            </a: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es, complete the needs assessment for that need/area.  If there is not another need/area, write the intervention plan.</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 don’t know!!!!!</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do you do if you are not able to determine if the need is a content area need or a particular learning issue?</a:t>
            </a:r>
            <a:endParaRPr b="0" lang="en-US" sz="3200" spc="-1" strike="noStrike">
              <a:solidFill>
                <a:srgbClr val="ffffff"/>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See next slides</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leting the Needs Assessment</a:t>
            </a:r>
            <a:endParaRPr b="0" lang="en-US" sz="3200" spc="-1" strike="noStrike">
              <a:solidFill>
                <a:srgbClr val="ffffff"/>
              </a:solidFill>
              <a:latin typeface="Comic Sans MS"/>
            </a:endParaRPr>
          </a:p>
        </p:txBody>
      </p:sp>
      <p:sp>
        <p:nvSpPr>
          <p:cNvPr id="93"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plete the define the problem and problem analysis for all identified areas before writing interventions.</a:t>
            </a:r>
            <a:endParaRPr b="0" lang="en-US" sz="2800" spc="-1" strike="noStrike">
              <a:solidFill>
                <a:srgbClr val="ffffff"/>
              </a:solidFill>
              <a:latin typeface="Comic Sans MS"/>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609480" indent="-60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urpose:  To determine if there is a single need affecting all areas.  See Peyton on the next slides.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ading</a:t>
            </a:r>
            <a:endParaRPr b="0" lang="en-US" sz="3600" spc="-1" strike="noStrike">
              <a:solidFill>
                <a:srgbClr val="ffffff"/>
              </a:solidFill>
              <a:latin typeface="Comic Sans MS"/>
            </a:endParaRPr>
          </a:p>
        </p:txBody>
      </p:sp>
      <p:sp>
        <p:nvSpPr>
          <p:cNvPr id="95" name="PlaceHolder 2"/>
          <p:cNvSpPr>
            <a:spLocks noGrp="1"/>
          </p:cNvSpPr>
          <p:nvPr>
            <p:ph/>
          </p:nvPr>
        </p:nvSpPr>
        <p:spPr>
          <a:xfrm>
            <a:off x="685800" y="2285640"/>
            <a:ext cx="7772400" cy="38098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fine the Problem:  </a:t>
            </a:r>
            <a:r>
              <a:rPr b="0" lang="en-US" sz="2000" spc="-1" strike="noStrike">
                <a:solidFill>
                  <a:srgbClr val="ffffff"/>
                </a:solidFill>
                <a:latin typeface="Times New Roman"/>
              </a:rPr>
              <a:t>Peyton struggles with reading comprehension.  Often, she is able to read a text, but is unable to retell what she has read.</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blem Analysis:  </a:t>
            </a:r>
            <a:r>
              <a:rPr b="0" lang="en-US" sz="2000" spc="-1" strike="noStrike">
                <a:solidFill>
                  <a:srgbClr val="ffffff"/>
                </a:solidFill>
                <a:latin typeface="Times New Roman"/>
              </a:rPr>
              <a:t>Peyton struggles with reading comprehension, Even after having texts read aloud to her, listening to a text on tape, etc. she still struggles with comprehending it.  Peyton struggles with reading unknown vocabulary words in various texts.  She is not able to use picture/word cures to help her decode unknown words.  Because of her vocabulary difficulties, her fluency rate is also very slow, thus contributing to the low comprehension.</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ath</a:t>
            </a:r>
            <a:endParaRPr b="0" lang="en-US" sz="3600" spc="-1" strike="noStrike">
              <a:solidFill>
                <a:srgbClr val="ffffff"/>
              </a:solidFill>
              <a:latin typeface="Comic Sans MS"/>
            </a:endParaRPr>
          </a:p>
        </p:txBody>
      </p:sp>
      <p:sp>
        <p:nvSpPr>
          <p:cNvPr id="97"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 the Problem:  </a:t>
            </a:r>
            <a:r>
              <a:rPr b="0" lang="en-US" sz="2400" spc="-1" strike="noStrike">
                <a:solidFill>
                  <a:srgbClr val="ffffff"/>
                </a:solidFill>
                <a:latin typeface="Times New Roman"/>
              </a:rPr>
              <a:t>Peyton struggles with math reasoning and has a hard time figuring out correct operations in math word problems.</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blem Analysis:  </a:t>
            </a:r>
            <a:r>
              <a:rPr b="0" lang="en-US" sz="2400" spc="-1" strike="noStrike">
                <a:solidFill>
                  <a:srgbClr val="ffffff"/>
                </a:solidFill>
                <a:latin typeface="Times New Roman"/>
              </a:rPr>
              <a:t>Peyton has difficulty with math vocabulary, which signals the operations to perform in word problems.</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ritten Expression</a:t>
            </a:r>
            <a:endParaRPr b="0" lang="en-US" sz="3600" spc="-1" strike="noStrike">
              <a:solidFill>
                <a:srgbClr val="ffffff"/>
              </a:solidFill>
              <a:latin typeface="Comic Sans MS"/>
            </a:endParaRPr>
          </a:p>
        </p:txBody>
      </p:sp>
      <p:sp>
        <p:nvSpPr>
          <p:cNvPr id="9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 the Problem:  </a:t>
            </a:r>
            <a:r>
              <a:rPr b="0" lang="en-US" sz="2400" spc="-1" strike="noStrike">
                <a:solidFill>
                  <a:srgbClr val="ffffff"/>
                </a:solidFill>
                <a:latin typeface="Times New Roman"/>
              </a:rPr>
              <a:t>Peyton struggles with putting her ideas into written form.  She is able to be descriptive in talking about a subject, but lack the ability to put these ideas onto paper.</a:t>
            </a:r>
            <a:endParaRPr b="0" lang="en-US" sz="24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blem Analysis:  </a:t>
            </a:r>
            <a:r>
              <a:rPr b="0" lang="en-US" sz="2400" spc="-1" strike="noStrike">
                <a:solidFill>
                  <a:srgbClr val="ffffff"/>
                </a:solidFill>
                <a:latin typeface="Times New Roman"/>
              </a:rPr>
              <a:t>Due to her struggles with vocabulary, her writing lacks all necessary parts of a sentence.  She is unable to write complete sentences, demonstrating complete thoughts.</a:t>
            </a:r>
            <a:endParaRPr b="0" lang="en-US" sz="24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23:10:41Z</dcterms:created>
  <dc:creator>Net Admin</dc:creator>
  <dc:description/>
  <dc:language>en-US</dc:language>
  <cp:lastModifiedBy>Net Admin</cp:lastModifiedBy>
  <dcterms:modified xsi:type="dcterms:W3CDTF">2009-11-11T18:00:20Z</dcterms:modified>
  <cp:revision>9</cp:revision>
  <dc:subject/>
  <dc:title>PEPs</dc:title>
</cp:coreProperties>
</file>